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DA3E-CFEA-40EC-B6C6-61FB5E365B9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D20-2A71-4B55-B0D4-90D4CC17F2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FA76-241A-43FC-BE7D-B4ACCF0494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2E5-4409-4CD0-B15F-BF39ACC8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DED-93FE-48D4-ACA2-B91D3CB9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AA1-85A8-4C4C-B0A5-625258C8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422-C3B5-4FF0-9CA0-7A12C1376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3F73-564F-4FF6-B234-5047BFF35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D8C2-6E76-478A-A407-A88A107E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84A3-C1F7-426B-95A7-78BE8F9D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39B8-9B16-4B0F-8EDB-2062B3E8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F680-3E8B-41B1-8D81-E7B05A7D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602-DFF1-4CD5-840E-DA490BB3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D51B-7D1D-4056-AA3E-3CF1E8F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E9F-7762-42F1-9C48-AAA2E7F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BC5-651F-4148-886E-6EEF179C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07C-7246-471D-B44C-92889A68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EDDD-748D-4648-A27E-2180BEBC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CE46-147C-412A-AE25-FE79C953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1553-13E2-4A74-95A8-83090292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F0AB2-9D97-4D6D-BC7E-D6DEC42C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9966B-EF53-4D6B-8AE7-2C4657E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AB3C-C3C9-4844-9170-1CDAC5B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55B7-7FAA-4472-8A38-3B9B0EF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E24D-FCED-4732-A756-29217623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554-339B-49EE-B6FC-A01CDFD2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87CB-D43E-4A85-90A9-97B00273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D86C1-5A64-4202-8113-F91A4F3D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6F17-DCE2-4199-8573-B37A203E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7AD7-49D2-4026-B34B-B4A1F28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6417-C784-405A-8937-5E26FF31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71806-DB2D-40DF-942E-C4A0CD85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0E986-12F7-446B-AC28-6E0EC0942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F1974-E00F-4E67-81FB-7DFA0D3E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4B4E-79B1-47FA-B36C-C8314BB7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F95C-9BD4-420E-AE2F-13657DC6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632-2D14-4AAF-8FA1-83EEDA74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09208-34CD-4259-9FC8-DA8D3518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A1A26-4D94-4B6B-8EDC-91685109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CC669-0596-4268-B968-4E662BC1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4D4FD-1B3D-4ACB-9857-A16069B2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3215-480C-4B59-815E-FA022B3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33720-4890-471F-8201-4C3BCBA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0C75F-753C-4478-82DE-3890BE76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AFBD8-5071-4D2D-82EA-9F06A514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3452-C1FC-4568-B3E3-54647FB1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90E3E-426A-448E-9744-782444356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4479-C4F8-45B7-94E0-3BF88114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70C93-32D8-486F-8B7A-1E6D3CA3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9E953-97FB-4E56-823B-14BBC2A1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4423F-1B87-4885-BA27-2A34DFF6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F5D73-7F61-4333-B0E9-89AD3D62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E1104-809F-4953-88A5-FA2C78E3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F92F-464C-4D8D-B258-0C153335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54194-BAF2-4CE6-AA53-2C9D04FB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A95C-F421-4639-A6A8-1C3FBBD1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DADF3-C50C-4705-8332-C9217401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2A880-48A9-4A80-8534-04FD6656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2E2-35A2-47B7-B434-0AE6936C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B5C2-2421-4FB3-8062-F9B9B037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FE512-8808-41E9-9B0C-89D84C97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3A72-E009-4D23-B6F8-01F08566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537E-BCF2-488F-A7ED-0802CF1C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F1DD-9F6F-4748-93F0-D92F2C25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012E-1266-4C8E-B13E-20305743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84DBB-2D08-48EF-A84D-E1236C0D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AE94D-EEA0-48D5-8477-5268EE3D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1F5B1-BCDA-4403-BFF6-63023EDA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5302F-335F-49F2-B379-C0D0EEBE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1558-6B20-466B-95E8-DBCEC7A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96570-2E97-4F16-95BE-E16D5CBF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5CB8C-20A7-4D48-8435-97110004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CDFBB-E8CA-43AF-9C2F-7B1EB5BC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0C9-1666-4E99-8A71-F2174738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7483-01B4-4886-BD82-E05D561E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0A4E-F654-4055-802A-D53208E50A20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F8F-032D-4E9F-8A15-D6F5CCE26CDC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B7A4-55ED-4CBF-88E8-0FA9B46464C0}" type="slidenum">
              <a:rPr b="0" lang="en-C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32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1B7C-6E87-4194-8648-3DA7FD494B9C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7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690B-35F4-47E3-A959-1C61533CA648}" type="slidenum">
              <a:rPr b="0" lang="en-C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483F-4F3E-472A-AC09-C274B9BD249C}" type="slidenum">
              <a:rPr b="0" lang="en-CA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pacontrol.com/image/biotechnology-introduction.jp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question_mark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250920" y="645336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marc.soton.ac.uk/Image%20File/new%20images/question_marks.j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285840" y="1695600"/>
            <a:ext cx="725472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440000" y="3314880"/>
            <a:ext cx="63403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: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676440" y="2266920"/>
            <a:ext cx="725472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828720" y="-6480"/>
            <a:ext cx="8102520" cy="17258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930560" y="3786120"/>
            <a:ext cx="3555720" cy="15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Haseeb 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Dongwei 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ffff"/>
                </a:solidFill>
                <a:latin typeface="Arial"/>
              </a:rPr>
              <a:t>Soundan M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08000" y="6280200"/>
            <a:ext cx="6480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999900"/>
                </a:solidFill>
                <a:uFillTx/>
                <a:latin typeface="Book Antiqua"/>
                <a:hlinkClick r:id="rId2"/>
              </a:rPr>
              <a:t>http://www.pacontrol.com/image/biotechnology-introduction.jpg</a:t>
            </a:r>
            <a:r>
              <a:rPr b="0" lang="en-CA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6" descr="Untitled-1 copy.gif"/>
          <p:cNvPicPr/>
          <p:nvPr/>
        </p:nvPicPr>
        <p:blipFill>
          <a:blip r:embed="rId3"/>
          <a:stretch/>
        </p:blipFill>
        <p:spPr>
          <a:xfrm>
            <a:off x="-19080" y="1414440"/>
            <a:ext cx="28353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Biotechnolog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Ethical View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Branches of Scien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Profes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Univers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95280" y="162864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ffffff"/>
                </a:solidFill>
                <a:latin typeface="Arial"/>
              </a:rPr>
              <a:t>Uses living organis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Agriculture, medicine, and environ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Human u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Arial"/>
              </a:rPr>
              <a:t>Biotechnology as treat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http://www.dailygalaxy.com/photos/uncategorized/2007/08/21/origin_of_life2pic05_2.gif"/>
          <p:cNvPicPr/>
          <p:nvPr/>
        </p:nvPicPr>
        <p:blipFill>
          <a:blip r:embed="rId1"/>
          <a:stretch/>
        </p:blipFill>
        <p:spPr>
          <a:xfrm>
            <a:off x="5505480" y="2567160"/>
            <a:ext cx="2693880" cy="55767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http://www.co.weld.co.us/departments/health/happenings/images/antibiotics_1.jpg"/>
          <p:cNvPicPr/>
          <p:nvPr/>
        </p:nvPicPr>
        <p:blipFill>
          <a:blip r:embed="rId2"/>
          <a:stretch/>
        </p:blipFill>
        <p:spPr>
          <a:xfrm>
            <a:off x="1158840" y="3449520"/>
            <a:ext cx="3260880" cy="32371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5"/>
          <p:cNvSpPr/>
          <p:nvPr/>
        </p:nvSpPr>
        <p:spPr>
          <a:xfrm>
            <a:off x="878040" y="6410160"/>
            <a:ext cx="5702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70c0"/>
                </a:solidFill>
                <a:latin typeface="Book Antiqua"/>
              </a:rPr>
              <a:t>ht</a:t>
            </a:r>
            <a:r>
              <a:rPr b="0" lang="en-CA" sz="1100" spc="-1" strike="noStrike">
                <a:solidFill>
                  <a:srgbClr val="ffffff"/>
                </a:solidFill>
                <a:latin typeface="Book Antiqua"/>
              </a:rPr>
              <a:t>tp://www.co.weld.co.us/departments/health/happenings/images/antibiotics_1.jpg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4441680" y="5632560"/>
            <a:ext cx="4213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ffffff"/>
                </a:solidFill>
                <a:latin typeface="Book Antiqua"/>
              </a:rPr>
              <a:t>http://www.dailygalaxy.com/photos/uncategorized/2007/08/21/origin_of_life2pic05_2.gif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4000" y="549360"/>
            <a:ext cx="83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mmm. What is Biotechn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Rectangle 1" descr=""/>
          <p:cNvPicPr/>
          <p:nvPr/>
        </p:nvPicPr>
        <p:blipFill>
          <a:blip r:embed="rId1"/>
          <a:stretch/>
        </p:blipFill>
        <p:spPr>
          <a:xfrm>
            <a:off x="-6480" y="573120"/>
            <a:ext cx="5492880" cy="1206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271160" y="2230560"/>
            <a:ext cx="364644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l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82640" indent="-585720">
              <a:spcBef>
                <a:spcPts val="799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1987560" y="3724200"/>
            <a:ext cx="3900600" cy="48164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3"/>
          <a:stretch/>
        </p:blipFill>
        <p:spPr>
          <a:xfrm>
            <a:off x="4516560" y="79200"/>
            <a:ext cx="3584520" cy="40356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5"/>
          <p:cNvSpPr/>
          <p:nvPr/>
        </p:nvSpPr>
        <p:spPr>
          <a:xfrm>
            <a:off x="1866960" y="6113520"/>
            <a:ext cx="56912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50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Book Antiqua"/>
              </a:rPr>
              <a:t>http://www.ogm.org/pages/showogm.php?cat=01&amp;ogmid=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Content Placeholder 4"/>
          <p:cNvSpPr/>
          <p:nvPr/>
        </p:nvSpPr>
        <p:spPr>
          <a:xfrm>
            <a:off x="554040" y="2003400"/>
            <a:ext cx="7466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Everyone has their own ethical view on thing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Biotechnology uses living organisms to make a produc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b050"/>
                </a:solidFill>
                <a:latin typeface="Arial"/>
              </a:rPr>
              <a:t>Doing this finds can prevent deadly diseases and death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0000"/>
                </a:solidFill>
                <a:latin typeface="Arial"/>
              </a:rPr>
              <a:t>Using living organisms is taking away their rights to live normally or just live at al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Hard to find a winning side because of unique ways of thinking </a:t>
            </a:r>
            <a:r>
              <a:rPr b="0" lang="en-CA" sz="2900" spc="-1" strike="noStrike">
                <a:solidFill>
                  <a:srgbClr val="ffffff"/>
                </a:solidFill>
                <a:latin typeface="Arial"/>
              </a:rPr>
              <a:t>in everyone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Rectangle 1" descr=""/>
          <p:cNvPicPr/>
          <p:nvPr/>
        </p:nvPicPr>
        <p:blipFill>
          <a:blip r:embed="rId1"/>
          <a:stretch/>
        </p:blipFill>
        <p:spPr>
          <a:xfrm>
            <a:off x="536400" y="530280"/>
            <a:ext cx="8089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1640" y="1031760"/>
            <a:ext cx="40179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t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Zo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Genet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olecular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io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2" descr="http://cdbaby.name/l/e/leigharuss.jpg"/>
          <p:cNvPicPr/>
          <p:nvPr/>
        </p:nvPicPr>
        <p:blipFill>
          <a:blip r:embed="rId1"/>
          <a:stretch/>
        </p:blipFill>
        <p:spPr>
          <a:xfrm>
            <a:off x="1017720" y="658800"/>
            <a:ext cx="3206520" cy="6321600"/>
          </a:xfrm>
          <a:prstGeom prst="rect">
            <a:avLst/>
          </a:prstGeom>
          <a:ln w="0">
            <a:noFill/>
          </a:ln>
        </p:spPr>
      </p:pic>
      <p:sp>
        <p:nvSpPr>
          <p:cNvPr id="292" name="TextBox 6"/>
          <p:cNvSpPr/>
          <p:nvPr/>
        </p:nvSpPr>
        <p:spPr>
          <a:xfrm>
            <a:off x="1008000" y="6151680"/>
            <a:ext cx="537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Book Antiqua"/>
              </a:rPr>
              <a:t>http://cdbaby.name/l/e/leigharuss.jp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2" descr=""/>
          <p:cNvPicPr/>
          <p:nvPr/>
        </p:nvPicPr>
        <p:blipFill>
          <a:blip r:embed="rId1"/>
          <a:stretch/>
        </p:blipFill>
        <p:spPr>
          <a:xfrm>
            <a:off x="950760" y="1957320"/>
            <a:ext cx="7596360" cy="4224240"/>
          </a:xfrm>
          <a:prstGeom prst="rect">
            <a:avLst/>
          </a:prstGeom>
          <a:ln w="0">
            <a:noFill/>
          </a:ln>
        </p:spPr>
      </p:pic>
      <p:pic>
        <p:nvPicPr>
          <p:cNvPr id="294" name="Rectangle 1" descr=""/>
          <p:cNvPicPr/>
          <p:nvPr/>
        </p:nvPicPr>
        <p:blipFill>
          <a:blip r:embed="rId2"/>
          <a:stretch/>
        </p:blipFill>
        <p:spPr>
          <a:xfrm>
            <a:off x="536400" y="530280"/>
            <a:ext cx="8089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Rectangle 1" descr=""/>
          <p:cNvPicPr/>
          <p:nvPr/>
        </p:nvPicPr>
        <p:blipFill>
          <a:blip r:embed="rId1"/>
          <a:stretch/>
        </p:blipFill>
        <p:spPr>
          <a:xfrm>
            <a:off x="878040" y="596880"/>
            <a:ext cx="7881840" cy="1208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1212480" y="2112840"/>
            <a:ext cx="7473960" cy="31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rock University (MSc)(PhD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York Univer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rleton Univers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Toronto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90600" indent="-293760">
              <a:spcBef>
                <a:spcPts val="774"/>
              </a:spcBef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655560"/>
                <a:tab algn="l" pos="1312920"/>
                <a:tab algn="l" pos="1968480"/>
                <a:tab algn="l" pos="2625840"/>
                <a:tab algn="l" pos="3281400"/>
                <a:tab algn="l" pos="3938760"/>
                <a:tab algn="l" pos="4595760"/>
                <a:tab algn="l" pos="5251320"/>
                <a:tab algn="l" pos="5908680"/>
                <a:tab algn="l" pos="6564240"/>
                <a:tab algn="l" pos="72216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iversity of Windsor (BSc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1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7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1:27:24Z</dcterms:created>
  <dc:creator>Shad  mm</dc:creator>
  <dc:description/>
  <dc:language>en-US</dc:language>
  <cp:lastModifiedBy>Shad  mm</cp:lastModifiedBy>
  <dcterms:modified xsi:type="dcterms:W3CDTF">2008-12-25T02:17:39Z</dcterms:modified>
  <cp:revision>8</cp:revision>
  <dc:subject/>
  <dc:title>Biotechnology</dc:title>
</cp:coreProperties>
</file>